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66D7-8497-4DB8-86DA-CDF3F7176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B8FA-A58A-4969-82C4-DEA40E44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0434-CB8F-4C3F-8238-A45631273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EDC9-E428-4A2F-A306-ADC8B7936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8065-F3AC-4242-9865-272250FF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43EC-48A2-4F97-80A9-83D5BFB8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78B8-A797-493B-BF3A-FAC5964C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A420-EA0E-4BF4-B1B8-BCE485FB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C614-9572-4CCD-B934-9DEB34B4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8FB0-3EF4-4B89-98DF-F2B14B46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FF37-CE8D-4D87-BF4F-FAE0346C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2460-ED20-403E-A060-EB808559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AC6E-C97D-43AD-A6DE-866BCCFFDF87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90 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s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, chvála tebe patrí len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Česť, chvála tebe patrí len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za milosť novú deň čo d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ty ľud svoj k sebe voláš zas,</a:t>
            </a:r>
            <a:br>
              <a:rPr sz="4800"/>
            </a:b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Arial"/>
              </a:rPr>
              <a:t>by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Arial"/>
              </a:rPr>
              <a:t>počuť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Arial"/>
              </a:rPr>
              <a:t>smel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Arial"/>
              </a:rPr>
              <a:t>tvoj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Arial"/>
              </a:rPr>
              <a:t>spásn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y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Arial"/>
              </a:rPr>
              <a:t>hlas</a:t>
            </a:r>
            <a:r>
              <a:rPr b="1" lang="sk-SK" sz="4400" spc="-1" strike="noStrike">
                <a:solidFill>
                  <a:srgbClr val="66ff33"/>
                </a:solidFill>
                <a:latin typeface="Arial"/>
                <a:ea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Buď vďaka ti, ó, Presvät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že nám vždy ideš v ústret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hoc slávy raja zbaven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 byť smieme s tebou blaž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iež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nielen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dnes</a:t>
            </a:r>
            <a:r>
              <a:rPr b="1" lang="sk-SK" sz="4400" spc="-1" strike="noStrike">
                <a:solidFill>
                  <a:srgbClr val="66ff33"/>
                </a:solidFill>
                <a:latin typeface="Arial"/>
                <a:ea typeface="Arial"/>
              </a:rPr>
              <a:t>,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v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  <a:ea typeface="Arial"/>
              </a:rPr>
              <a:t> 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deň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soboty</a:t>
            </a:r>
            <a:r>
              <a:rPr b="1" lang="sk-SK" sz="4400" spc="-1" strike="noStrike">
                <a:solidFill>
                  <a:srgbClr val="66ff33"/>
                </a:solidFill>
                <a:latin typeface="Arial"/>
                <a:ea typeface="Arial"/>
              </a:rPr>
              <a:t>,</a:t>
            </a:r>
            <a:br>
              <a:rPr sz="44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znie pozdrav tvojej dobrot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daj deň čo deň nech cíti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 nav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y tebe patríme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Timo</cp:lastModifiedBy>
  <dcterms:modified xsi:type="dcterms:W3CDTF">2014-02-15T10:12:10Z</dcterms:modified>
  <cp:revision>24</cp:revision>
  <dc:subject/>
  <dc:title>Je veľký náš Pán, on slávy je Kráľ Nech do všetkých strán  spev vrúcnych znie chvál.</dc:title>
</cp:coreProperties>
</file>